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6DC-5368-488A-ADCB-5C9BFE22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64A-6CA8-4D80-A8C5-8E57E122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DBD0-E488-4DB0-817A-463216E2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8229-EAD0-4400-AB27-D366072E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3CBA-ACA2-4D07-A0B5-41E0DEA3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C089-D6BF-4E4B-A8A0-7E8B7C94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C986-EFBB-4293-B0BF-2F1D2336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DB92-663A-4C50-8680-8B4272C6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D4A7-EC89-46DB-9673-A06D00AE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27C7-B281-4F1A-A87B-8BAF6D62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1B63-9324-49BA-9855-EA432EBA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A3E-B10E-4793-B0B9-D7E40B68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9BD6-5BD6-4B97-AB6F-4A21C378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1FCA-9C2E-4E78-AFD1-7FFFF07E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D6C1-8BD0-4AAE-8C4F-2A5A7AFC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6E21-8B59-463A-8E73-3BF6C021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8A64-4E14-4257-85B3-8AA6A1CB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B92-FBD1-4811-AC3A-4F393F09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E5EA-2089-4EEB-BB47-3F5657C5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550B-C152-4476-A807-DD403DE7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CD2-A299-4E91-8574-5D26A78E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645-AC7E-49A3-8CA0-B65155D8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D27-2E0F-447B-817E-45C6017D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FC5A-7F9C-4683-A95F-63C007DF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67DD-7C61-490B-A9BD-B0A57A596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plant"/>
          <p:cNvPicPr/>
          <p:nvPr/>
        </p:nvPicPr>
        <p:blipFill>
          <a:blip r:embed="rId3"/>
          <a:stretch/>
        </p:blipFill>
        <p:spPr>
          <a:xfrm>
            <a:off x="5257800" y="2286000"/>
            <a:ext cx="4240080" cy="474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6022-55AC-4D05-AA63-A01C1D911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caert.com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9795" dir="389898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derstanding Soil Form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4" descr="cartlogo_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086520"/>
            <a:ext cx="6667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of the shale, sandstone, or limeston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bedroc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Illinois is buried by loess, glacial till, outwash, or alluviu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345"/>
          <p:cNvPicPr/>
          <p:nvPr/>
        </p:nvPicPr>
        <p:blipFill>
          <a:blip r:embed="rId1"/>
          <a:stretch/>
        </p:blipFill>
        <p:spPr>
          <a:xfrm>
            <a:off x="1979640" y="3505320"/>
            <a:ext cx="4817880" cy="31827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457200" y="28195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out 2% of the soils in Illinoi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s than 1% of the soils in Illinois are classified as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organ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r where formerly shallow ponds supported swamp vege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at and mu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ck is more decomposed than pe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ther Fa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5638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opograph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s to the slope characteristics of a soi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ncludes the degree or steepness, length, shape, and direction of a slop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21"/>
          <p:cNvPicPr/>
          <p:nvPr/>
        </p:nvPicPr>
        <p:blipFill>
          <a:blip r:embed="rId1"/>
          <a:stretch/>
        </p:blipFill>
        <p:spPr>
          <a:xfrm>
            <a:off x="5791320" y="17524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ther Factor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sms that live in soil (i.e., plants, insects, and microbes) actively affect soil forma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318"/>
          <p:cNvPicPr/>
          <p:nvPr/>
        </p:nvPicPr>
        <p:blipFill>
          <a:blip r:embed="rId1"/>
          <a:stretch/>
        </p:blipFill>
        <p:spPr>
          <a:xfrm>
            <a:off x="5181480" y="2666880"/>
            <a:ext cx="3135600" cy="347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80880" y="2887560"/>
            <a:ext cx="4724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greatest affect on the development of soil is from plants that once grew in it, which is referred to as 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native vegetation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ther Factor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two types of weathe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Physical weather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caused by the effects of climatic factors (e.g., temperature, water, and wind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Chemical weather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s the chemical makeup of rock and breaks it dow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ive different factors that affect soil form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26" descr="22"/>
          <p:cNvPicPr/>
          <p:nvPr/>
        </p:nvPicPr>
        <p:blipFill>
          <a:blip r:embed="rId1"/>
          <a:stretch/>
        </p:blipFill>
        <p:spPr>
          <a:xfrm>
            <a:off x="5486400" y="2619360"/>
            <a:ext cx="2857680" cy="3629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7"/>
          <p:cNvSpPr/>
          <p:nvPr/>
        </p:nvSpPr>
        <p:spPr>
          <a:xfrm>
            <a:off x="457200" y="3809880"/>
            <a:ext cx="449568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Topography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lop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acteristics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oi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20560" y="1600200"/>
            <a:ext cx="55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 material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rock material from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ch the soil is forme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are five different factors that affect soil formation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Living organis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Time or weath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341"/>
          <p:cNvPicPr/>
          <p:nvPr/>
        </p:nvPicPr>
        <p:blipFill>
          <a:blip r:embed="rId1"/>
          <a:stretch/>
        </p:blipFill>
        <p:spPr>
          <a:xfrm>
            <a:off x="3276720" y="4019400"/>
            <a:ext cx="4653000" cy="2686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762120" y="2743200"/>
            <a:ext cx="800100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 Climate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the temperature and moisture characteristics of the are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soils in Illinois have been formed from material originally moved by glaci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7" descr="317"/>
          <p:cNvPicPr/>
          <p:nvPr/>
        </p:nvPicPr>
        <p:blipFill>
          <a:blip r:embed="rId1"/>
          <a:stretch/>
        </p:blipFill>
        <p:spPr>
          <a:xfrm>
            <a:off x="2362320" y="3352680"/>
            <a:ext cx="459720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771560" y="-28440"/>
            <a:ext cx="560088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out 64% of the soil in Illinois has been formed from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oe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rred from the blowing of the soil after the glaciers melted and dri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desirable single soil parent materi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ll-balanced mineral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 tex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llent water-holding capa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out 16% of the soil in Illinois has been formed from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outwas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rred when the glaciers mel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5" descr="342"/>
          <p:cNvPicPr/>
          <p:nvPr/>
        </p:nvPicPr>
        <p:blipFill>
          <a:blip r:embed="rId1"/>
          <a:stretch/>
        </p:blipFill>
        <p:spPr>
          <a:xfrm>
            <a:off x="1905120" y="2819520"/>
            <a:ext cx="55623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out 11% of the soil in Illinois is from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glacial til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343"/>
          <p:cNvPicPr/>
          <p:nvPr/>
        </p:nvPicPr>
        <p:blipFill>
          <a:blip r:embed="rId1"/>
          <a:stretch/>
        </p:blipFill>
        <p:spPr>
          <a:xfrm>
            <a:off x="2362320" y="3349800"/>
            <a:ext cx="4572000" cy="3355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380880" y="236232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layered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bbles and various sizes of boulder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% of the soil in Illinois is a result of recent sediments deposited by streams as they flood and is referred to as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alluvi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344"/>
          <p:cNvPicPr/>
          <p:nvPr/>
        </p:nvPicPr>
        <p:blipFill>
          <a:blip r:embed="rId1"/>
          <a:stretch/>
        </p:blipFill>
        <p:spPr>
          <a:xfrm>
            <a:off x="2209680" y="2971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23:56:20Z</dcterms:created>
  <dc:creator>Lindi Kocher</dc:creator>
  <dc:description/>
  <cp:keywords/>
  <dc:language>en-US</dc:language>
  <cp:lastModifiedBy>Alicia Burge</cp:lastModifiedBy>
  <dcterms:modified xsi:type="dcterms:W3CDTF">2010-10-05T02:15:46Z</dcterms:modified>
  <cp:revision>118</cp:revision>
  <dc:subject/>
  <dc:title>Horticulture Sc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21033</vt:lpwstr>
  </property>
</Properties>
</file>